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884760" y="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5C239-CD88-4E3F-8E93-C55A095A03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949AF-193B-4D6E-8797-DEC56EA157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59F00-ACAD-4DB2-A0E4-364B0E9699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07691-4534-4487-B4F8-A25A373A7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CF612-EDA1-4DCC-B61F-259DE6B4B8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528A6-001C-4FE9-9665-8F086E1143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41FEB-F297-41EB-A0C5-62F9939A2016}" type="slidenum">
              <a:rPr b="0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1D372-D34F-4ADA-8101-6511E00E60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C13EA-5FF9-4323-9475-241E9724D7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B9DF4-C7A3-419C-8E8D-138A4AF71D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78BAF-0603-425F-815D-92BEE67A14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0285E-69DF-4993-B20C-9C43C8FC7A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D1661-55E1-466F-8BBF-D0A8023107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3248F-B4DE-413B-8261-3D19A2FCAE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C7904-5574-4278-ADD4-DF65EC6A6A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29E87-FD40-4305-A9C9-49871FF4ED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CC968-6330-42EF-95BC-8E92B512EC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131B4-8D9A-46CC-912D-8AC89DE741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3D05F-98DB-4832-85F1-92626F314E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E8001-74AB-4E47-A93C-F6E29AA2B6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CAD36-BD56-4B8E-8DF9-103915ABBD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C280A-9C07-4895-86D9-D64C7D2CCD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4EEF5-7622-450D-BC32-E4574348EF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C7DD4-75FE-4AC2-B5E4-E50751BD79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A6F1B-705F-4DB0-B1A6-32C4DB4968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AC4B8-24C6-48AA-ADB0-8197B12BCA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E03A5-A20B-4549-8F3D-DE2F12173C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02FC2-EA69-4BA6-B4F1-8F18721BF0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EAEB7-E5B5-4F1E-99E0-5A8214EC1F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A65B4-1ADD-4307-8163-2D9627371E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3E4A9-5872-481D-BED9-14A930D2AB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B03B-2B70-4AD1-924F-ABF9B6BCE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D4A4-F863-45BB-9A10-01C0BB92D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06B5-69E2-4411-AEFC-95906303D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0BFA-1573-40A8-BC30-3C1F5F3A0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563B-AE0C-4E16-A700-3CAFD394E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F36E-391D-44B3-8FC3-9C0F8CF82C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A817-2CD2-45A0-A564-6A2EF20B4A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087B-60DE-477A-8E38-2B575B43EC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89B6-DAD0-4CFF-9597-40A7A352F1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B68A5-75C1-4342-9915-5D16DB7F9A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D8A6-0328-4E8C-B7BA-184B00464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D543-0506-4D5F-93EB-8FD1AE118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6F35-90B4-42E8-9818-14CDEED5BA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BDB3-CC65-47BF-BC07-76FE9505A8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0FE7-B96A-49B4-A884-E484F6E157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01F1-F190-4B8D-982A-C028849FF8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0E88-1C47-4925-860C-64962B42C8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2CC-614D-4C57-969D-5955FA6916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3C2-7CE0-49A3-A351-A924FB594B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CD5-B606-4373-BF9F-8FE3370A02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45D-13D1-49A2-9AB5-A4764AAFCE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DF0-CB9A-41E3-901C-904F300E6F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2997-9DE9-4995-A199-6EEAA8994F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912-0409-49CE-B0E7-A47AC97890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5F7-D795-494C-A67C-B2F24E7099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309-FED5-430A-B8B3-C992E1D5AE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1C9-A273-4207-84EB-2E12B0E175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1D7-E83B-44FD-BC54-18B66A41E2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110-9314-409D-BC51-6A6D8EA35C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689-CEC0-42B8-8F82-CEBA216A1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2DF2-2ECA-4384-B961-4E25FFCD4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6F63-6497-4991-8EA1-22878FB6E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5BFA-F8CB-407E-A0D8-EFEEC515F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F676-BFDB-4022-914E-251E4D253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C167-0600-4D42-A76C-F7ED9A198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7C4A-11D4-4C10-AE06-59B7DAC1C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FrutigerLT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L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L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L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L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L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L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L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4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505320" y="6322680"/>
            <a:ext cx="2130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AFE5C-D909-475F-856E-DF6912F9C070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809640" cy="792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7039080" y="6019920"/>
            <a:ext cx="199692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3492000" y="6207120"/>
            <a:ext cx="21193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0ED52B-2B55-4CA2-84A2-80858A26511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3492000" y="6207120"/>
            <a:ext cx="21193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1B5193-1CB0-48C3-B9FD-BE2FEE9B90D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3492360" y="6208560"/>
            <a:ext cx="2122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62078-6ED8-4E15-8DC6-698ABD4EFE0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990720"/>
            <a:ext cx="822960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b80047"/>
                </a:solidFill>
                <a:latin typeface="FrutigerLT"/>
                <a:ea typeface="Arial"/>
              </a:rPr>
              <a:t>International Digitization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b80047"/>
                </a:solidFill>
                <a:latin typeface="FrutigerLT"/>
                <a:ea typeface="Arial"/>
              </a:rPr>
              <a:t>Dublin, June 17th,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Franklin Gothic Book"/>
                <a:ea typeface="Arial"/>
              </a:rPr>
              <a:t>THE DIGITIZATION OF CULTURAL 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Franklin Gothic Book"/>
                <a:ea typeface="Arial"/>
              </a:rPr>
              <a:t>AN INVESTMENT FOR THE 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500" spc="-1" strike="noStrike">
                <a:solidFill>
                  <a:srgbClr val="3333cc"/>
                </a:solidFill>
                <a:latin typeface="Franklin Gothic Book"/>
                <a:ea typeface="Arial"/>
              </a:rPr>
              <a:t>Frédéric Bokobz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500" spc="-1" strike="noStrike">
                <a:solidFill>
                  <a:srgbClr val="3333cc"/>
                </a:solidFill>
                <a:latin typeface="Franklin Gothic Book"/>
                <a:ea typeface="Arial"/>
              </a:rPr>
              <a:t>French Ministry for Culture and 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500" spc="-1" strike="noStrike">
                <a:solidFill>
                  <a:srgbClr val="3333cc"/>
                </a:solidFill>
                <a:latin typeface="Franklin Gothic Book"/>
                <a:ea typeface="Arial"/>
              </a:rPr>
              <a:t>Directorate General for Media and Cultural Industries</a:t>
            </a:r>
            <a:br>
              <a:rPr sz="3000"/>
            </a:b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FrutigerL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FrutigerL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FrutigerLT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57200" y="1638360"/>
            <a:ext cx="1676520" cy="703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5284800" y="1523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5029200" y="253368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€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15,85M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incl. € 10.6M brought by FS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Loan, budgetary contribution (50-5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Digitization and marketing by 2017 of public and private audiovisual coll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66640" y="2519280"/>
            <a:ext cx="3776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€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15,12M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incl. € 10M brought by FS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Equity partici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Digitization of films in the Gaumont catalogue : 270 films digitized in a four-year period, with a 15 years exploitation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463680" y="228600"/>
            <a:ext cx="82231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SELECTED INVESTMENT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Examples of cultural projects (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FrutigerL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FrutigerL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FrutigerLT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1285920" cy="101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5562720" y="1574640"/>
            <a:ext cx="2133360" cy="711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4859280" y="2421000"/>
            <a:ext cx="3827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€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12M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incl. € 8M brought by FS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Budgetary contribution, loan (50-5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Virtual Pompidou Museum” project (“</a:t>
            </a:r>
            <a:r>
              <a:rPr b="0" i="1" lang="en-GB" sz="1800" spc="-1" strike="noStrike">
                <a:solidFill>
                  <a:srgbClr val="000000"/>
                </a:solidFill>
                <a:latin typeface="FrutigerLT"/>
              </a:rPr>
              <a:t>Centre Pompidou virtuel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”), a virtual resources centre allowing online access to all contents and artworks from the muse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243540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€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13.5M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incl. € 10M brought by FS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Budgetary con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Digitization of 4 collections of the </a:t>
            </a:r>
            <a:r>
              <a:rPr b="0" i="1" lang="en-GB" sz="1800" spc="-1" strike="noStrike">
                <a:solidFill>
                  <a:srgbClr val="000000"/>
                </a:solidFill>
                <a:latin typeface="FrutigerLT"/>
              </a:rPr>
              <a:t>Bibliothèque nationale de France 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(books, music and pr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Involves 4 private partners selected after public calls for t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463680" y="228600"/>
            <a:ext cx="82231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SELECTED INVESTMENT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Examples of cultural projects (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228600" y="1371600"/>
            <a:ext cx="38098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72960" y="112536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he Virtual Pompidou Centre opened to the public on October 4th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A highly innovative cultural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3686040" cy="223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5638680" y="1076400"/>
            <a:ext cx="2392560" cy="15904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4284720" y="306864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A virtual resources centre allowing online access to all contents produced by the Centre Pompidou (masterpieces from the art collections, library resources, archives, recordings, interviews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Every media is represented on the platform, as a means to reflect the richness and diversity of the museum’s cultural 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3680" y="228600"/>
            <a:ext cx="82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CENTRE POMPIDOU VIRTUEL 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428840" cy="476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"/>
          <p:cNvPicPr/>
          <p:nvPr/>
        </p:nvPicPr>
        <p:blipFill>
          <a:blip r:embed="rId1"/>
          <a:stretch/>
        </p:blipFill>
        <p:spPr>
          <a:xfrm>
            <a:off x="4268880" y="1617840"/>
            <a:ext cx="4624200" cy="3466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"/>
          <p:cNvSpPr/>
          <p:nvPr/>
        </p:nvSpPr>
        <p:spPr>
          <a:xfrm>
            <a:off x="228600" y="1176480"/>
            <a:ext cx="37450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o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he new « Virtual Pompidou Museum » website allows an effortless online access to a numerous collection of art-pieces, written works, as well as audio and visual arch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o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he virtual collection contains 95.000 digital artworks  from 6.000 artists – and their detailed biograph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o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Ultimately, the project aims at the digitization and analysis of more than 76.000 additional pieces of art from the muse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676520" y="6054840"/>
            <a:ext cx="5410080" cy="916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FrutigerLT"/>
              </a:rPr>
              <a:t>With this new proposal, the Pompidou Muse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FrutigerLT"/>
              </a:rPr>
              <a:t>opens up to a much wider audience</a:t>
            </a:r>
            <a:r>
              <a:rPr b="1" lang="en-GB" sz="1800" spc="-1" strike="noStrike">
                <a:solidFill>
                  <a:srgbClr val="000000"/>
                </a:solidFill>
                <a:latin typeface="FrutigerLT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63680" y="228600"/>
            <a:ext cx="82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CENTRE POMPIDOU VIRTUEL (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914400" y="61722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28840" cy="476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228600" y="1371600"/>
            <a:ext cx="38098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4000" y="1143000"/>
            <a:ext cx="439236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Voluntarily, the Centre Pompidou’s website does not offer a 360° virtual tour, because “</a:t>
            </a:r>
            <a:r>
              <a:rPr b="0" i="1" lang="en-GB" sz="1800" spc="-1" strike="noStrike">
                <a:solidFill>
                  <a:srgbClr val="000000"/>
                </a:solidFill>
                <a:latin typeface="FrutigerLT"/>
              </a:rPr>
              <a:t>nothing can replace physical contact with the artwork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Users can register from the home page, and create their own portfolio of artwork, conferences, interviews, musical archives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he website is to be enriched soon with user’s con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he website is 33% sponsored by Pernod Rica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he website welcomes an average ca. 400 000 visitors each month and should increase physical visits and e-shop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63680" y="228600"/>
            <a:ext cx="82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CENTRE POMPIDOU VIRTUEL (I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2884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380880" y="3200400"/>
            <a:ext cx="784872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3520" y="1366920"/>
            <a:ext cx="83818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192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FrutigerLT"/>
                <a:ea typeface="Arial"/>
              </a:rPr>
              <a:t>I. The “Investment for the future”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Objectives and princi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Examples of selected projects in the cultural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he “Centre Pompidou Virtue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FrutigerLT"/>
                <a:ea typeface="Arial"/>
              </a:rPr>
              <a:t>II. Cultural industries in the digital age: challenges for public 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Some identified challenges and propos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Next st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80880" y="347760"/>
            <a:ext cx="85345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THE DIGITIZATION OF CULTURAL CONTENTS</a:t>
            </a:r>
            <a:br>
              <a:rPr sz="2400"/>
            </a:b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An investment for the fu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93600"/>
            <a:ext cx="87631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A NEW AMBITION FOR CULTURE IN THE DIGITAL AGE</a:t>
            </a:r>
            <a:br>
              <a:rPr sz="2400"/>
            </a:b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Context</a:t>
            </a:r>
            <a:endParaRPr b="1" lang="en-US" sz="20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Focused on cultural &amp; creative industries in the digital era: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A large and systematic documentation and expertise of the situation and challenges for these industrie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A review of public policies in these field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Analysing citizens’ and stakesholders’ expectations, bottlenecks, strengths and weaknesses, needs for public policies overhaul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5105520" y="2048040"/>
            <a:ext cx="3900240" cy="2600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457200" y="12952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A mission launched by the President of the Republic in the summer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4876920" y="4876920"/>
            <a:ext cx="396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Report handed to the President of the Republic and the Minister for Culture and Communication in May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438280" y="6159600"/>
            <a:ext cx="3862440" cy="6426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80 proposals to the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1600200" y="61596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248520" y="946080"/>
            <a:ext cx="2819160" cy="1258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93600"/>
            <a:ext cx="87631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A NEW AMBITION FOR CULTURE IN THE DIGITAL AGE</a:t>
            </a:r>
            <a:br>
              <a:rPr sz="2400"/>
            </a:b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Proposals &amp; recommendations (I)</a:t>
            </a:r>
            <a:endParaRPr b="1" lang="en-US" sz="20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114200"/>
            <a:ext cx="883944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Continue efforts towards digitization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-31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Continue "Investments d’avenir" PPP model for projects with proven RoI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-31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Foster </a:t>
            </a:r>
            <a:r>
              <a:rPr b="0" i="1" lang="fr-FR" sz="1800" spc="-1" strike="noStrike">
                <a:solidFill>
                  <a:srgbClr val="000000"/>
                </a:solidFill>
                <a:latin typeface="FrutigerLT"/>
              </a:rPr>
              <a:t>ad hoc</a:t>
            </a: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 financial instruments (loan guarantees) - including Creative Europe and national specialised institutions such as IFCIC in France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-31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Use State Aid schemes for non-commercial catalogue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Refocus actions against piracy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-31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Reinforce proportionality of explanatory action regarding P2P illegal filesharing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-31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Adopt "Follow the money" approach against rogue site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Take corrective measures regarding the value transfer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-31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Set up a low rate, wide range contribution on connected device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2120" indent="-31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Use collected funds to support structural adaptations of cultural and creative industries to digital, including metadata project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6248520" y="1574640"/>
            <a:ext cx="27162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93600"/>
            <a:ext cx="87631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A NEW AMBITION FOR CULTURE IN THE DIGITAL AGE</a:t>
            </a:r>
            <a:br>
              <a:rPr sz="2400"/>
            </a:b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Proposals &amp; recommendations (II)</a:t>
            </a:r>
            <a:endParaRPr b="1" lang="en-US" sz="20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Tackle value-sharing issues within the (music) value chain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Organise structured discussion amongst stakesholder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If necessary, consider setting up a mandatory collective management scheme for online neighbouring right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Evaluate potential adaptations of copyright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Transformative creation (mashup, remixes)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Situation of impaired persons, libraries, teaching institution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Overhaul the Audiovisual Media Services Directive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Extend scope to distributors of non-linear AVM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Reverse country of origin principle for online service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Revise EU VAT directive so as to adopt technology neutral VAT rate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676520" y="5943600"/>
            <a:ext cx="5410080" cy="6426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utigerLT"/>
              </a:rPr>
              <a:t>Keep policy space for the future audiovisual &amp; cultural EU 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990720" y="60609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6248520" y="2241720"/>
            <a:ext cx="2819160" cy="12585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"/>
          <p:cNvSpPr/>
          <p:nvPr/>
        </p:nvSpPr>
        <p:spPr>
          <a:xfrm>
            <a:off x="6248520" y="2871720"/>
            <a:ext cx="27162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36792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3333cc"/>
                </a:solidFill>
                <a:latin typeface="FrutigerLT"/>
              </a:rPr>
              <a:t>THANK YOU FOR YOUR ATTENTION!</a:t>
            </a:r>
            <a:endParaRPr b="1" lang="en-US" sz="3600" spc="-1" strike="noStrike">
              <a:solidFill>
                <a:srgbClr val="3333cc"/>
              </a:solidFill>
              <a:latin typeface="FrutigerL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2028600"/>
            <a:ext cx="86868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utigerLT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FrutigerLT"/>
              </a:rPr>
              <a:t>For more information:</a:t>
            </a:r>
            <a:endParaRPr b="0" lang="en-US" sz="2000" spc="-1" strike="noStrike">
              <a:solidFill>
                <a:srgbClr val="000000"/>
              </a:solidFill>
              <a:latin typeface="FrutigerLT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FrutigerLT"/>
              </a:rPr>
              <a:t>	</a:t>
            </a:r>
            <a:r>
              <a:rPr b="1" i="1" lang="fr-FR" sz="2000" spc="-1" strike="noStrike">
                <a:solidFill>
                  <a:srgbClr val="ff0000"/>
                </a:solidFill>
                <a:latin typeface="FrutigerLT"/>
              </a:rPr>
              <a:t>www.culturecommunication.gouv.fr/index.php/Actualites/Missions-et-rapports/Rapport-de-la-Mission-Acte-II-de-l-exception-culturelle-Contribution-aux-politiques-culturelles-a-l-ere-numerique</a:t>
            </a:r>
            <a:endParaRPr b="0" lang="en-US" sz="20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57200" y="3621240"/>
            <a:ext cx="6629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rédéric Bokob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rectorate General for Media and Cultural Indus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nistry of Culture and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rederic.bokobza@culture.gouv.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33 1 40 15 33 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80880" y="1295280"/>
            <a:ext cx="685800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380880" y="347760"/>
            <a:ext cx="85345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THE DIGITIZATION OF CULTURAL CONTENTS</a:t>
            </a:r>
            <a:br>
              <a:rPr sz="2400"/>
            </a:b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An investment for the fu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1366920"/>
            <a:ext cx="83818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192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FrutigerLT"/>
                <a:ea typeface="Arial"/>
              </a:rPr>
              <a:t>I. The “Investment for the future”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Objectives and princi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Examples of selected projects in the cultural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he “Centre Pompidou Virtue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FrutigerLT"/>
                <a:ea typeface="Arial"/>
              </a:rPr>
              <a:t>II. Cultural industries in the digital age: challenges for public 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Some identified challenges and propos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Next st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192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28520"/>
            <a:ext cx="82202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INVESTMENTS FOR THE FUTURE 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28600" y="1295280"/>
            <a:ext cx="43210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>
              <a:lnSpc>
                <a:spcPct val="125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39672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9380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A major programme launched at the end of 2009 as part of a governmental initiative to reinforce long-term French competit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45000"/>
              </a:lnSpc>
              <a:spcBef>
                <a:spcPts val="451"/>
              </a:spcBef>
              <a:tabLst>
                <a:tab algn="l" pos="0"/>
                <a:tab algn="l" pos="39672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9380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39672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9380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Programme initially financed by a 2009 € 35bn “national loan” spending plan intended to prepare the post-crisis re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39672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9380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39672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9380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Investments allocated according to the governmental crisis-exit strategy, distributed among several indus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95320" cy="905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589640" y="1523880"/>
            <a:ext cx="4478040" cy="4419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4665600" y="1295280"/>
            <a:ext cx="4343400" cy="12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7080"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FrutigerLT"/>
              </a:rPr>
              <a:t>Initial indicative allocations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8520" indent="-397080"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FrutigerLT"/>
              </a:rPr>
              <a:t>the € 35bn budget for the 5 prio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8520" indent="-397080" algn="ct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FrutigerLT"/>
              </a:rPr>
              <a:t>sectors covered by the program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79280" y="1143000"/>
            <a:ext cx="4861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WHY? Anticipate the post-crisis recove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A strategic approach to ensure long-term competitiveness of the French econom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An exceptional, substantial investment  to prepare the grounds for the post-crisis re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Priorities granted to three development axis : housing, energy transition and digital tran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An investment for the future, not a public expenditure: a documented return on investment is a prerequisite to any investment 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5105520" y="1905120"/>
            <a:ext cx="38098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LT"/>
              </a:rPr>
              <a:t>HOW? 10 public operato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he programme is implemented by 10 government operators, among which the </a:t>
            </a:r>
            <a:r>
              <a:rPr b="0" i="1" lang="en-GB" sz="1800" spc="-1" strike="noStrike">
                <a:solidFill>
                  <a:srgbClr val="000000"/>
                </a:solidFill>
                <a:latin typeface="FrutigerLT"/>
              </a:rPr>
              <a:t>Caisse des Dépôts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Conventions signed between the State and these operators, committing to a strict corporate governance, based on systematic assessments and profitability requi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7620120" y="57240"/>
            <a:ext cx="1419120" cy="161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8238960" y="6745320"/>
            <a:ext cx="18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57200" y="128520"/>
            <a:ext cx="82202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INVESTMENTS FOR THE FUTURE (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728720" y="5697360"/>
            <a:ext cx="5205600" cy="916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FrutigerLT"/>
              </a:rPr>
              <a:t>President François Hollande has announced in early 2013 that the programme will be extended fur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1042920" y="5943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542880" y="201600"/>
            <a:ext cx="82202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AN INVESTMENT WITH DISTINCTIVE CHARACTERIS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04920" y="1503360"/>
            <a:ext cx="525780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5000"/>
              </a:lnSpc>
              <a:spcBef>
                <a:spcPts val="17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7d"/>
                </a:solidFill>
                <a:latin typeface="FrutigerLT"/>
              </a:rPr>
              <a:t>Asset building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35000"/>
              </a:lnSpc>
              <a:spcBef>
                <a:spcPts val="17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Font typeface="Courier New"/>
              <a:buChar char="o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Non-expendable endowments + loan + equ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= € 22bn (63% of the overall € 35b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3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Expendable endowments with return on investment targets: royalties, fees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= € 13bn (37% of the overall € 35b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7d"/>
                </a:solidFill>
                <a:latin typeface="FrutigerLT"/>
              </a:rPr>
              <a:t>Expected leverage effe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3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FrutigerLT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Co-funding (private funding, local authorities, …)  to carry out a total investment amounting to € 60b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3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FrutigerLT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Co-investments with private investors and banks should allow a leverage effect of 1 t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4927680" y="1430280"/>
            <a:ext cx="4673520" cy="4421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5562720" y="5562720"/>
            <a:ext cx="35049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7080"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FrutigerLT"/>
              </a:rPr>
              <a:t>Distribution of f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8001000" y="15238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7080"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utigerLT"/>
              </a:rPr>
              <a:t>Conditionall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98520" indent="-397080" algn="ctr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utigerLT"/>
              </a:rPr>
              <a:t>repayabl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98520" indent="-397080" algn="ctr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utigerLT"/>
              </a:rPr>
              <a:t>advan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98520" indent="-397080" algn="ctr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utigerLT"/>
              </a:rPr>
              <a:t>8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128520"/>
            <a:ext cx="82231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THE « DIGITAL ECONOMY» PROGRAMME 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152280" y="1143000"/>
            <a:ext cx="4572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51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LT"/>
              </a:rPr>
              <a:t>Two strategic objectives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6600" indent="-335160">
              <a:lnSpc>
                <a:spcPct val="100000"/>
              </a:lnSpc>
              <a:spcBef>
                <a:spcPts val="425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Accelerate the deployment of high-speed broadband networks across the count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6600" indent="-335160">
              <a:lnSpc>
                <a:spcPct val="100000"/>
              </a:lnSpc>
              <a:spcBef>
                <a:spcPts val="425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Support the development of new services, innovative digital contents and their 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6600" indent="-335160">
              <a:lnSpc>
                <a:spcPct val="50000"/>
              </a:lnSpc>
              <a:spcBef>
                <a:spcPts val="42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6600" indent="-3351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utigerLT"/>
              </a:rPr>
              <a:t>Implementation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6600" indent="-335160">
              <a:lnSpc>
                <a:spcPct val="100000"/>
              </a:lnSpc>
              <a:spcBef>
                <a:spcPts val="425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Priority put on projects with the greatest impact in terms of creating economic activity, employment and territorial development, as well as those maximising the ROI for the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6600" indent="-335160">
              <a:lnSpc>
                <a:spcPct val="100000"/>
              </a:lnSpc>
              <a:spcBef>
                <a:spcPts val="425"/>
              </a:spcBef>
              <a:buClr>
                <a:srgbClr val="00007d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Implementation by the National Fund for a Digital Society - “</a:t>
            </a:r>
            <a:r>
              <a:rPr b="0" i="1" lang="en-GB" sz="1800" spc="-1" strike="noStrike">
                <a:solidFill>
                  <a:srgbClr val="000000"/>
                </a:solidFill>
                <a:latin typeface="FrutigerLT"/>
              </a:rPr>
              <a:t>Fonds pour la société numérique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” (FS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905720" y="5715000"/>
            <a:ext cx="38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FrutigerLT"/>
              </a:rPr>
              <a:t>* « Smart Grids » investments managed by the ADE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078520" y="1413000"/>
            <a:ext cx="37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FrutigerLT"/>
              </a:rPr>
              <a:t>Investments for the Future</a:t>
            </a:r>
            <a:br>
              <a:rPr sz="1800"/>
            </a:br>
            <a:r>
              <a:rPr b="1" lang="fr-FR" sz="1800" spc="-1" strike="noStrike" u="sng">
                <a:solidFill>
                  <a:srgbClr val="000000"/>
                </a:solidFill>
                <a:uFillTx/>
                <a:latin typeface="FrutigerLT"/>
              </a:rPr>
              <a:t> "Digital economy" Program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FrutigerLT"/>
              </a:rPr>
              <a:t>Budget forecast (in € b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4835520" y="4994280"/>
            <a:ext cx="3745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908600" y="4994280"/>
            <a:ext cx="1100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FrutigerLT"/>
              </a:rPr>
              <a:t>High speed broadband network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183360" y="4994280"/>
            <a:ext cx="1100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FrutigerLT"/>
              </a:rPr>
              <a:t>Services and Digital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7429680" y="504036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FrutigerLT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195880" y="4051440"/>
            <a:ext cx="576360" cy="9428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FrutigerLT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6348240" y="2768760"/>
            <a:ext cx="576360" cy="12826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FrutigerLT"/>
              </a:rPr>
              <a:t>2,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7674120" y="2922480"/>
            <a:ext cx="576000" cy="20718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FrutigerLT"/>
              </a:rPr>
              <a:t>4,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5776920" y="40514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6948360" y="2770200"/>
            <a:ext cx="719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6348240" y="2768760"/>
            <a:ext cx="576360" cy="16344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FrutigerLT"/>
              </a:rPr>
              <a:t>0,25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7674120" y="2771640"/>
            <a:ext cx="576000" cy="1638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FrutigerLT"/>
              </a:rPr>
              <a:t>0,25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 flipH="1">
            <a:off x="8376840" y="2898720"/>
            <a:ext cx="19080" cy="205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8459640" y="3835440"/>
            <a:ext cx="6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FrutigerLT"/>
              </a:rPr>
              <a:t>FS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FrutigerLT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8459640" y="2611440"/>
            <a:ext cx="6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FrutigerLT"/>
              </a:rPr>
              <a:t>ADE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FrutigerLT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0"/>
          <p:cNvSpPr/>
          <p:nvPr/>
        </p:nvSpPr>
        <p:spPr>
          <a:xfrm>
            <a:off x="8388360" y="2716200"/>
            <a:ext cx="1440" cy="227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5248440" y="3763800"/>
            <a:ext cx="4316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rutigerLT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22"/>
          <p:cNvSpPr/>
          <p:nvPr/>
        </p:nvSpPr>
        <p:spPr>
          <a:xfrm>
            <a:off x="6445080" y="2467080"/>
            <a:ext cx="432000" cy="226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rutigerLT"/>
              </a:rPr>
              <a:t>2,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23"/>
          <p:cNvSpPr/>
          <p:nvPr/>
        </p:nvSpPr>
        <p:spPr>
          <a:xfrm>
            <a:off x="7740720" y="2467080"/>
            <a:ext cx="431640" cy="226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rutigerLT"/>
              </a:rPr>
              <a:t>4,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056120" y="1143000"/>
            <a:ext cx="3200400" cy="1077840"/>
          </a:xfrm>
          <a:prstGeom prst="rect">
            <a:avLst/>
          </a:prstGeom>
          <a:solidFill>
            <a:srgbClr val="95b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National F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for a Digital Society (FS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« Service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Digital Contents » 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838080" y="2514600"/>
            <a:ext cx="4494240" cy="576360"/>
          </a:xfrm>
          <a:prstGeom prst="rect">
            <a:avLst/>
          </a:prstGeom>
          <a:solidFill>
            <a:srgbClr val="95b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Invest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019920" y="2514600"/>
            <a:ext cx="2495520" cy="576360"/>
          </a:xfrm>
          <a:prstGeom prst="rect">
            <a:avLst/>
          </a:prstGeom>
          <a:solidFill>
            <a:srgbClr val="95b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LT"/>
              </a:rPr>
              <a:t>State Aids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838080" y="3090960"/>
            <a:ext cx="449604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Funding of projects in the digital sector as a “market investor” (equity, quasi-equity, loans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With regard to priority thematics, the government launched a Call for Expression of Interest - “</a:t>
            </a:r>
            <a:r>
              <a:rPr b="0" i="1" lang="en-GB" sz="1800" spc="-1" strike="noStrike">
                <a:solidFill>
                  <a:srgbClr val="000000"/>
                </a:solidFill>
                <a:latin typeface="FrutigerLT"/>
              </a:rPr>
              <a:t>Appel à manifestation d’interêt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” (AM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Common investment fund in the form of equity or quasi-equity investments aimed at SMEs operating in the digital s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6629400" y="1676520"/>
            <a:ext cx="1658880" cy="31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FrutigerLT"/>
              </a:rPr>
              <a:t> € </a:t>
            </a:r>
            <a:r>
              <a:rPr b="1" i="1" lang="fr-FR" sz="1800" spc="-1" strike="noStrike">
                <a:solidFill>
                  <a:srgbClr val="000000"/>
                </a:solidFill>
                <a:latin typeface="FrutigerLT"/>
              </a:rPr>
              <a:t>2 250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4267080" y="2590920"/>
            <a:ext cx="13986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FrutigerLT"/>
              </a:rPr>
              <a:t>~€14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019920" y="3081240"/>
            <a:ext cx="2496960" cy="24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LT"/>
              </a:rPr>
              <a:t>Public support in the form of grants or repayable advances (with profit-sharing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rutigerL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LT"/>
              </a:rPr>
              <a:t>Thematic calls for projects supporting R&amp;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173160"/>
                <a:tab algn="l" pos="620640"/>
                <a:tab algn="l" pos="1069920"/>
                <a:tab algn="l" pos="1519200"/>
                <a:tab algn="l" pos="1968480"/>
                <a:tab algn="l" pos="2417760"/>
                <a:tab algn="l" pos="2867040"/>
                <a:tab algn="l" pos="3316320"/>
                <a:tab algn="l" pos="3765600"/>
                <a:tab algn="l" pos="4214880"/>
                <a:tab algn="l" pos="4664160"/>
                <a:tab algn="l" pos="5113440"/>
                <a:tab algn="l" pos="5562720"/>
                <a:tab algn="l" pos="6012000"/>
                <a:tab algn="l" pos="6461280"/>
                <a:tab algn="l" pos="6910560"/>
                <a:tab algn="l" pos="7359480"/>
                <a:tab algn="l" pos="7808760"/>
                <a:tab algn="l" pos="8258040"/>
                <a:tab algn="l" pos="8707320"/>
                <a:tab algn="l" pos="9156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7772400" y="2633760"/>
            <a:ext cx="1371600" cy="31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FrutigerLT"/>
              </a:rPr>
              <a:t>~€85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1"/>
          <p:cNvSpPr/>
          <p:nvPr/>
        </p:nvSpPr>
        <p:spPr>
          <a:xfrm>
            <a:off x="463680" y="152280"/>
            <a:ext cx="82231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THE « DIGITAL ECONOMY» PROGRAMME (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Types of intervention and indicative break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3884400" y="2209680"/>
            <a:ext cx="1222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6248520" y="220968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1547280"/>
            <a:ext cx="8001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</a:rPr>
              <a:t>Two </a:t>
            </a: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Call for Projects (CFPs) in the frame of "Technologies for digital content"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41280" indent="-339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CFP #1 launched in late 2010 </a:t>
            </a:r>
            <a:r>
              <a:rPr b="0" lang="en-GB" sz="1800" spc="-1" strike="noStrike">
                <a:solidFill>
                  <a:srgbClr val="000000"/>
                </a:solidFill>
                <a:latin typeface="FrutigerLT"/>
                <a:ea typeface="Calibri"/>
              </a:rPr>
              <a:t>dedicated to the digitization and development of cultural, scientific and educational content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41280" indent="-339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18 projects selected (out of 73 applications), amounts ranging between     € 587.000 and € 7.6M from a total budget of € 32.5M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lvl="1" marL="74124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41280" indent="-339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  <a:ea typeface="Calibri"/>
              </a:rPr>
              <a:t>CFP #2 launched in late 2011 aims to support R&amp;D projects in broadcasting, movies, music, photography, press and video game technologie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41280" indent="-339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LT"/>
                <a:ea typeface="Calibri"/>
              </a:rPr>
              <a:t>16 projects selected (out of 39 applications) were short-listed by the Committee in 2012 for a total budget of € 23.1M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380880" y="228600"/>
            <a:ext cx="82234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R&amp;D PROJECTS HELPED WITHIN THE DIGITAL ECONOMY PROGRAMME 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2 calls for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8920" y="2016000"/>
            <a:ext cx="43196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2560" indent="-32256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Aims at creating an interoperating and international infrastructure to distribute digital content with a new distribution model of digital writing based on: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lvl="1" marL="704160" indent="-269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LT"/>
              </a:rPr>
              <a:t>Open source: standards are public</a:t>
            </a:r>
            <a:endParaRPr b="0" lang="en-US" sz="1600" spc="-1" strike="noStrike">
              <a:solidFill>
                <a:srgbClr val="000000"/>
              </a:solidFill>
              <a:latin typeface="FrutigerLT"/>
            </a:endParaRPr>
          </a:p>
          <a:p>
            <a:pPr lvl="1" marL="704160" indent="-269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LT"/>
              </a:rPr>
              <a:t>Interoperability of digital rights. It is no longer files that circulate among the players concerned but digital copyright (cf. cloud computing)</a:t>
            </a:r>
            <a:endParaRPr b="0" lang="en-US" sz="1600" spc="-1" strike="noStrike">
              <a:solidFill>
                <a:srgbClr val="000000"/>
              </a:solidFill>
              <a:latin typeface="FrutigerLT"/>
            </a:endParaRPr>
          </a:p>
          <a:p>
            <a:pPr marL="322560" indent="-322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18 partners from the book industry and new technologies sectors to establish  technical and economic proof concept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utigerLT"/>
              </a:rPr>
              <a:t>DYNARCHI</a:t>
            </a:r>
            <a:endParaRPr b="0" lang="en-US" sz="2400" spc="-1" strike="noStrike">
              <a:solidFill>
                <a:srgbClr val="000000"/>
              </a:solidFill>
              <a:latin typeface="FrutigerLT"/>
            </a:endParaRPr>
          </a:p>
          <a:p>
            <a:pPr marL="317160" indent="0" algn="just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FrutigerLT"/>
            </a:endParaRPr>
          </a:p>
          <a:p>
            <a:pPr marL="31716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"DYNamic ARCHItecture for movies, documentaries &amp; films Archiving"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7160" indent="0" algn="just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716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Main deliverables: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7160" indent="-3157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LT"/>
              </a:rPr>
              <a:t>A digital archiving and storage pipeline for legacy and fresh films</a:t>
            </a:r>
            <a:endParaRPr b="0" lang="en-US" sz="1600" spc="-1" strike="noStrike">
              <a:solidFill>
                <a:srgbClr val="000000"/>
              </a:solidFill>
              <a:latin typeface="FrutigerLT"/>
            </a:endParaRPr>
          </a:p>
          <a:p>
            <a:pPr marL="317160" indent="-3157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LT"/>
              </a:rPr>
              <a:t>A web application dedicated to independent producers for film cataloguing and post-production jobs supervision</a:t>
            </a:r>
            <a:endParaRPr b="0" lang="en-US" sz="1600" spc="-1" strike="noStrike">
              <a:solidFill>
                <a:srgbClr val="000000"/>
              </a:solidFill>
              <a:latin typeface="FrutigerLT"/>
            </a:endParaRPr>
          </a:p>
          <a:p>
            <a:pPr marL="317160" indent="0" algn="just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716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24 months duration, started Nov. 2012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  <a:p>
            <a:pPr marL="31716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LT"/>
              </a:rPr>
              <a:t>4 industrial partners, 3 major cinema producers</a:t>
            </a:r>
            <a:endParaRPr b="0" lang="en-US" sz="1800" spc="-1" strike="noStrike">
              <a:solidFill>
                <a:srgbClr val="000000"/>
              </a:solidFill>
              <a:latin typeface="FrutigerLT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95320" cy="904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228600" y="1260360"/>
            <a:ext cx="1260360" cy="720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380880" y="228600"/>
            <a:ext cx="82234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FrutigerLT"/>
              </a:rPr>
              <a:t>R&amp;D PROJECTS HELPED WITHIN THE DIGITAL ECONOMY PROGRAMME (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FrutigerLT"/>
              </a:rPr>
              <a:t>Examples of cultural projects sel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600200" y="1274760"/>
            <a:ext cx="2666880" cy="70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7080" algn="ct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FrutigerLT"/>
              </a:rPr>
              <a:t>€ </a:t>
            </a:r>
            <a:r>
              <a:rPr b="1" i="1" lang="en-GB" sz="1800" spc="-1" strike="noStrike">
                <a:solidFill>
                  <a:srgbClr val="ffffff"/>
                </a:solidFill>
                <a:latin typeface="FrutigerLT"/>
              </a:rPr>
              <a:t>7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8520" indent="-397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FrutigerLT"/>
              </a:rPr>
              <a:t>incl. € 3M from FS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400800" y="1274760"/>
            <a:ext cx="2666880" cy="70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7080" algn="ct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FrutigerLT"/>
              </a:rPr>
              <a:t>€ </a:t>
            </a:r>
            <a:r>
              <a:rPr b="1" i="1" lang="en-GB" sz="1800" spc="-1" strike="noStrike">
                <a:solidFill>
                  <a:srgbClr val="ffffff"/>
                </a:solidFill>
                <a:latin typeface="FrutigerLT"/>
              </a:rPr>
              <a:t>2.3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8520" indent="-397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FrutigerLT"/>
              </a:rPr>
              <a:t>incl. € 0.8M from FS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0:06:32Z</dcterms:created>
  <dc:creator>Matthieu Couranjou</dc:creator>
  <dc:description/>
  <dc:language>en-US</dc:language>
  <cp:lastModifiedBy>Frederic.Bokobza</cp:lastModifiedBy>
  <cp:lastPrinted>2012-02-22T10:41:52Z</cp:lastPrinted>
  <dcterms:modified xsi:type="dcterms:W3CDTF">2013-07-05T07:35:48Z</dcterms:modified>
  <cp:revision>283</cp:revision>
  <dc:subject/>
  <dc:title>Diapositive 1</dc:title>
</cp:coreProperties>
</file>