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410B-5107-4B6E-9FF2-86573C694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33B7-7A76-4B58-B6DF-5638C0D8C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0C44-5650-4F33-ABB7-A5BA30E83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9C6D-2C16-44BA-A18B-EFC35ED73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4BC7-C62E-4A22-BC8A-1DA321017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3E6F-FF92-4B06-8608-0B9900305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9A00-9E45-490C-8A80-3DAF53FA2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9EAB-22EA-49A5-AE41-42401F66B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B11F-52EE-4F97-BAC8-7BA98273C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1A34-D448-422C-BC73-44DFEEEB6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9E14-D5E3-44C6-B30B-AD77D9F96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3635-1870-41C0-9120-5555F47CD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76DE-139E-4D5B-8ECC-BB7BF7933449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l.uk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58920" y="3284640"/>
            <a:ext cx="66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31313"/>
                </a:solidFill>
                <a:latin typeface="Arial"/>
              </a:rPr>
              <a:t>Aly Conteh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gitisation Programme Manager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31313"/>
                </a:solidFill>
                <a:latin typeface="Arial"/>
              </a:rPr>
              <a:t>20</a:t>
            </a:r>
            <a:r>
              <a:rPr b="1" lang="en-GB" sz="1800" spc="-1" strike="noStrike" baseline="30000">
                <a:solidFill>
                  <a:srgbClr val="131313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131313"/>
                </a:solidFill>
                <a:latin typeface="Arial"/>
              </a:rPr>
              <a:t> May 2008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624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tish Library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ver 150 million collection items, including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Books, serials, newspapers, manuscripts, maps, photographs, prints and drawings, patent specifications, music scores, sound discs, stamps…….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torage: 650 linear kilometers, growth rate = 11 kilometers a yea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ebsite: 5 million unique users, 60 million pages served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eading Rooms: 400,000 visitors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reasures include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agna Carta, Lindisfarne Gospels, Leonardo da Vinci’s Notebook, The Times first edition (18 March 1788),  Beatles manuscripts, recording of Nelson Mandela’s trial speech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96AB-B8FC-4F9F-B8CB-5DA23D189E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have we don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70256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reated over 50 million digital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ave several 100s TB in our digital stor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rovide Access through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ebsite in digital collections, Images On-line, TTP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n Reading Room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External Websites – Publishers, Academic Institu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acsimiles/Public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gitised 1% of our collections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508A-CF64-4810-AD4E-9EC1EAF91B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are we currently doing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Partnership with Microsoft to digitise 25 million pages of 19</a:t>
            </a:r>
            <a:r>
              <a:rPr b="0" lang="en-GB" sz="1800" spc="-1" strike="noStrike" baseline="30000">
                <a:solidFill>
                  <a:srgbClr val="131313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 Century book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1 million pages of pre-1900 British national and regional newspapers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4,000 hours of sound recording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Various manuscript digitisation project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51640" y="4076640"/>
            <a:ext cx="2346120" cy="2519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196848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A88A-9180-4CBC-B447-8C96EB71E1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are some of the challenges for u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5734080"/>
            <a:ext cx="3529080" cy="431640"/>
          </a:xfrm>
          <a:prstGeom prst="rect">
            <a:avLst/>
          </a:prstGeom>
          <a:solidFill>
            <a:srgbClr val="a6d5f3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Original Material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5157720"/>
            <a:ext cx="17290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Non Digital Surrogates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e.g. microfilm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4581360"/>
            <a:ext cx="352908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Imag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Archival versions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3429000"/>
            <a:ext cx="352908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Structural, Descriptive, Technical, Preservation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2852640"/>
            <a:ext cx="17290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Supporting Text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e.g. commentary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2852640"/>
            <a:ext cx="17287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Full Text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OCR &amp; manual keying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2276640"/>
            <a:ext cx="17290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Navigation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276640"/>
            <a:ext cx="17287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Search 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keyword &amp; full text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1700280"/>
            <a:ext cx="35290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web interface, user functionality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4005360"/>
            <a:ext cx="35290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Imag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131313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Service version</a:t>
            </a:r>
            <a:r>
              <a:rPr b="0" lang="en-GB" sz="900" spc="-1" strike="noStrike">
                <a:solidFill>
                  <a:srgbClr val="131313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6280" y="3429000"/>
            <a:ext cx="606600" cy="158436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Digital Preservation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500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Sustainability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136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Interoperability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772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6280" y="1700280"/>
            <a:ext cx="606600" cy="158436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Interface Technologi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7408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9A52-D170-4495-8EDB-58030601D9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are some of the challenges for u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345456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P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ong Term Preservation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ustainability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election Criteria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tandard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Partnership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Workflow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048200" cy="363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BB80-4795-4664-B013-19ED443B56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ces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6312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ow do we ensure that the resources that we create are what our users require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ustomer Quality Expect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What are some of the things we do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User Panel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Usability Lab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wareness of trend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4935-00CE-4050-86CC-FA88E41E5E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ces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6312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ow can we improve the user experience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Poor Quality OC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mount of data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ack of tools to manipulate historical tex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European Commission funded projec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15 partn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dvance state of the art in OC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evelop language tools and lexica in order to provide access to historical texts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Build a network of competence centres in order to provide a single access point for all players involved in mass-digitisation</a:t>
            </a: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4969080" cy="90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6471-28E5-4D2B-9C4D-C508F37420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ank You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3743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6172c"/>
                </a:solidFill>
                <a:uFillTx/>
                <a:latin typeface="Arial"/>
                <a:hlinkClick r:id="rId1"/>
              </a:rPr>
              <a:t>www.bl.uk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1313"/>
                </a:solidFill>
                <a:latin typeface="Arial"/>
              </a:rPr>
              <a:t>aly.conteh@bl.uk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81024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7B41-BF9D-4DCE-9490-099D4F182F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2:53:50Z</dcterms:created>
  <dc:creator>Aly Conteh</dc:creator>
  <dc:description/>
  <cp:keywords/>
  <dc:language>en-US</dc:language>
  <cp:lastModifiedBy>ntumelty</cp:lastModifiedBy>
  <dcterms:modified xsi:type="dcterms:W3CDTF">2008-05-26T11:34:03Z</dcterms:modified>
  <cp:revision>12</cp:revision>
  <dc:subject/>
  <dc:title>TITLE</dc:title>
</cp:coreProperties>
</file>