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326-A6C0-4A52-BE75-70A41282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212-4712-499C-A2A6-341D31D0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D46-3801-485B-8AB3-85D0133C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DEC-F4A3-4EC8-87C4-0C5F311D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EB4-7982-46C7-85BC-287174F0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591-05AD-47D3-B3F4-A5319443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98C-7600-44B4-9279-279E666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4703-2C47-477A-9E34-9F6DF599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0CF-8C01-41A1-8F25-CC337ACE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A04-BC4D-43F8-8381-07467455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DBDE-94A2-4792-AAE3-1C26425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765-ABE1-4569-A713-50517CCB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DD4-D30B-486D-9FD6-B1D2D25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BB1B-3E23-4C08-A340-6EC0AA40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174-A237-437D-841F-686B8B11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0D9C-59DB-451B-877D-000DB190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EAD-BF72-418D-B56D-941FC24B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25E-543D-488F-94E5-E0D46E0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817-B36D-43ED-BD03-EFF25800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758-EEEC-47DF-B302-34282AEE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0D6-2E4A-4C2F-8406-C04BA4F2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3C8-E9FC-4A11-B44B-A6D3E1B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7C7-9156-4F8E-A9C1-7517E9C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30E-A3F4-420F-90F3-30D9DB5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F5AF-B371-4702-BC38-BAD95C570BD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100D-7B85-48B2-B060-FAD8C834339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26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Joint UK-Ireland Digitisation Workshop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48320" y="47239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 Po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D8B3-D278-483C-BA80-6FDB417DAA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results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s un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ity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agendas 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D99-FD05-4FEC-AEF2-3391033B4B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the Minister said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ould like to see further development of digitisation and electronic delivery of library services in the coming years. Digitisation of services should be developed in a way that enables information to be shared between organisations such as the Public Records Office Northern Ireland, Museums and Galleries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win Poots  January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316-F77B-4ECE-A34E-A5056445A9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dwin_poots_meets_roger_dixon_at_the_francis_bigger_exhibition_2" descr="DCAL Minister Edwin Poots meets Roger Dixon at the launch of the Francis J Bigger exhibition at Belfast Central Library"/>
          <p:cNvPicPr/>
          <p:nvPr/>
        </p:nvPicPr>
        <p:blipFill>
          <a:blip r:embed="rId1"/>
          <a:stretch/>
        </p:blipFill>
        <p:spPr>
          <a:xfrm>
            <a:off x="457200" y="336600"/>
            <a:ext cx="8153280" cy="65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5DF-6180-4040-AA6D-EC67D729A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stablishing Digitisation program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towards a NI Libraries Strate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3AE-722E-4D52-AB73-367B38938A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ere we are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vergence –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ng 2009-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S network in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E34-B763-4CD0-8D65-3CCF803406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people exp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artment - D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ing Tomorrows Libr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y access t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; learning;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133-0A44-4291-B8C1-CFE0084C93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’s been done so far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819520"/>
            <a:ext cx="60958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-operati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C N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896-1E49-4672-92A2-F26F43CA5A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ome examp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 of Union Virtual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wsplan 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magh Bomb Community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us Ward - A Virtual Exhib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ntre for Migration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D3E-CCC1-46EE-B1C2-E7CC62B26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idden Treasures - Belfa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getresource" descr="Embassy to China exhibtion launch in Belfast Central Library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7CA-3E2A-4606-8406-BA9092E66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rom Projects to Strateg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dience – identify targe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ldings – identify materials/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uidelines/procedures – best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ology - standards;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tnerships – identify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ding streams -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F86-5D9C-45B7-885B-7C97C69C1F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What it means for ni-librar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forward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ing possib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ening up discu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‘family’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Bs; NI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ves; museums;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t UK-Ireland Digitisation Workshop UFTM 20 May 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FFC-636E-4FBA-AB6E-8FEB2F2E52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Porter</cp:lastModifiedBy>
  <dcterms:modified xsi:type="dcterms:W3CDTF">2008-05-19T20:50:47Z</dcterms:modified>
  <cp:revision>31</cp:revision>
  <dc:subject/>
  <dc:title>PowerPoint Presentation</dc:title>
</cp:coreProperties>
</file>