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360" y="404640"/>
            <a:ext cx="7772400" cy="35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404640"/>
            <a:ext cx="7772400" cy="35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6519960" y="4876920"/>
            <a:ext cx="2471760" cy="185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295280" indent="-380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3" marL="17146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4" marL="2133720" indent="-3049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5" marL="2133720" indent="-304920">
              <a:spcBef>
                <a:spcPts val="7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6" marL="2133720" indent="-304920">
              <a:spcBef>
                <a:spcPts val="7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5943240"/>
            <a:ext cx="244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4770-7794-42D6-890B-F6B41D31FC1C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ommunity, Enterprise, Recreation, Cultural &amp; Heritage 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943240"/>
            <a:ext cx="281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HR Training – Induction Pha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27 Novem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15720" cy="3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03440" y="1600200"/>
            <a:ext cx="7737120" cy="76320"/>
          </a:xfrm>
          <a:prstGeom prst="rect">
            <a:avLst/>
          </a:prstGeom>
          <a:gradFill rotWithShape="0">
            <a:gsLst>
              <a:gs pos="0">
                <a:srgbClr val="3d2e4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gitisation-Branching Out Meath County Libr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4360" y="4190760"/>
            <a:ext cx="7775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ecff"/>
                </a:solidFill>
                <a:latin typeface="Tahoma"/>
              </a:rPr>
              <a:t>Ciarán Manga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ecff"/>
                </a:solidFill>
                <a:latin typeface="Tahoma"/>
              </a:rPr>
              <a:t>County Libraria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9880" y="2514600"/>
            <a:ext cx="13017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THEM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I. LOCAL STUDIES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Locality and Schools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Transportation: railways and canal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Farming in Meath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II. 19TH CENTURY MEATH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Meath poor law unions and workhouses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The land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Health and medicine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III. PAST AND PRESENT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Business and trade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Sport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ecff"/>
                </a:solidFill>
                <a:latin typeface="Tahoma"/>
              </a:rPr>
              <a:t>Glossary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ecff"/>
                </a:solidFill>
                <a:latin typeface="Tahoma"/>
              </a:rPr>
              <a:t>Timeline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0AEEE-4D79-489D-817F-55376773001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3219480" cy="724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F892E-A77D-4BB3-AB41-90AC0768B0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ccffff"/>
                </a:solidFill>
                <a:latin typeface="Tahoma"/>
              </a:rPr>
              <a:t>Meath County Council Library Servic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Population 162,620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13 Branche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22,500 member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420,000 Issue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10 Professional Posts (48 Staff in total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Branching Ou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Opening Hours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Branch Developmen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3450E-BF3A-4303-9BA1-5D562C3735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ccffff"/>
                </a:solidFill>
                <a:latin typeface="Tahoma"/>
              </a:rPr>
              <a:t>Local Studies Dep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4,500 Vo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ourna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p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phemer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rchiv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cal Studies Libraria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aff Develop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13A42-D333-4833-8AE2-7F03D8FB88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Digitisation in context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utomation of collec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3 Phas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ublishing-CD,Audio,Book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tional Initiatives-AA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cu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ructu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B73A4-5405-41B1-82D7-709A41E6A5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i="1" lang="en-IE" sz="4400" spc="-1" strike="noStrike">
                <a:solidFill>
                  <a:srgbClr val="ccffff"/>
                </a:solidFill>
                <a:latin typeface="Tahoma"/>
              </a:rPr>
              <a:t>Ask About Irela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rchitecture-Thatched Houses in County Meat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 Big House-Charlesfort Estat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Flora and Fauna-Tobacco Growing in Meath 1898-193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oor Law Union-Dunshaughlin Workhous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rish Traditional Music-Turlough O’Carola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E38F5-6EE6-4614-83F5-558BF3B86B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udent Zo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omes Then and Now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Qua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artnership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91C55-16CF-4C7E-8EAF-323B8C2F28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enefi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Upskilling of staff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Outlet for unique materia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Access to national resour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Osi -Acces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Irish Times-Digital Arch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Goodwil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F7EAD-F84D-4F13-A208-7A4F7ACADC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ture Plans/Challen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way Papers- Challeng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udio Publishing- Op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rchive and LS Resource Pack for Schoo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ieldnam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hotographic Archive- Clare Library model ?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ibrary Website-Waterford County,Clare,Mayo,Slig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6A4A4-6821-4EF2-92D3-64AE3B8EE2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32000" y="1052640"/>
            <a:ext cx="6095880" cy="45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C4692-A942-411E-9552-CF3DB63DA2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21:13:48Z</dcterms:created>
  <dc:creator>R. M. McKinley</dc:creator>
  <dc:description/>
  <dc:language>en-US</dc:language>
  <cp:lastModifiedBy>ntumelty</cp:lastModifiedBy>
  <cp:lastPrinted>2005-11-16T14:03:46Z</cp:lastPrinted>
  <dcterms:modified xsi:type="dcterms:W3CDTF">2008-05-26T11:27:22Z</dcterms:modified>
  <cp:revision>107</cp:revision>
  <dc:subject/>
  <dc:title>Community &amp; Enterprise</dc:title>
</cp:coreProperties>
</file>