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87E-3662-43E9-923A-E22F80F6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B0F-66F7-4F71-909C-1A4E08B6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4B6-3375-47C8-A188-8F83964C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7F3-4BFA-4528-BE12-1BBE1191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C375-6E1F-4929-9CD6-A61E82AE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958-ADDC-481E-8FDF-55C871FF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55D1-D053-4BB2-97BF-51B61B84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4479-35E1-4BFB-A4FF-E576F0A4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6AF7-1C0F-4334-85A2-81752141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D761-F4B7-4918-8F2E-1810D464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6DA4-A4C5-4FB5-873A-CC3D4A3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F28-81B2-4506-A988-FC35B03E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3A38-9967-4AE8-BC3C-399C5D9B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9D80-694C-48AB-8E1A-4E43DB9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7B33-DE98-42B1-8338-14046F5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1B1E-D234-47E5-A194-5C1BAC57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597-97B5-4B53-8834-0DCAF626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685-AD59-4B71-ADC8-592FAB1B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C6A-255B-4FBC-BA06-A8E1B16D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9AD-03DB-4709-9522-1DF3FAAD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AF3-E81D-498F-A2A6-C89B7DEB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1CB-5E44-4394-8852-A572F78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CFE-00C5-487C-A30B-0FA3FDF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8CB-DECB-4516-9DF0-A07D6D3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EB45-2879-476A-9BEC-46C5540E9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0061-F3B9-47C2-9C69-9FD7AAC44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igitisation</a:t>
            </a:r>
            <a:br>
              <a:rPr sz="4400"/>
            </a:b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 Museum Perspectiv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lifford Har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ad of Collections Mana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tional Museums N.Ire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Tahoma"/>
              </a:rPr>
              <a:t>Some basic questions?</a:t>
            </a:r>
            <a:br>
              <a:rPr sz="28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y do we get involved in digitis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do we go about digitis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mpact does digitisation make on us and our us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re is it going to lea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Why do we get involved in digitisation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ry one else is doing 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afraid of not being seen as progres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think it would be a great thing to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roving collections a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ent needed by others i.e. education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grant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told to do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How do we go about digitisation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think of projects that we want to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look for a grant or funding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often set up some partner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set up Project Boards and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digitise all sorts of sour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probably break some copy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stick it on the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close the project and move on to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What impact does digitisation make on us and our users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leads us into activities and relationships that are often new and a bit uncer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often digitise on Reithian princip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jects develop digital assets with no preservation or sustainability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we really know if our digital online offerings are impactful and worth the resources we have used to put them in plac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Where is it going to lead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in the midst of a rising tide of demand to unlock public sector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is island after island of cultural websites – do we build bridges between them or aggregate them in some form – or should we be bother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becoming broadcasters and publishers and so are the 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will be the impact of the thinking around Web 2 &amp; 3, social networking and social technolog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55:04Z</dcterms:created>
  <dc:creator>Clifford.Harkness</dc:creator>
  <dc:description/>
  <dc:language>en-US</dc:language>
  <cp:lastModifiedBy>ntumelty</cp:lastModifiedBy>
  <dcterms:modified xsi:type="dcterms:W3CDTF">2008-05-26T11:02:59Z</dcterms:modified>
  <cp:revision>30</cp:revision>
  <dc:subject/>
  <dc:title>Strengths </dc:title>
</cp:coreProperties>
</file>