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0.png" ContentType="image/png"/>
  <Override PartName="/ppt/media/image9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png" ContentType="image/png"/>
  <Override PartName="/ppt/media/image3.png" ContentType="image/png"/>
  <Override PartName="/ppt/media/image11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624000" cy="981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75084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856800" y="734760"/>
            <a:ext cx="4908600" cy="367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931824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750840" y="931824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83D4F-12EF-48D1-A7DF-90502E9805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3750840" y="931824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7B8F2-21D9-46EA-AFF9-BFF82E6355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-360" y="931824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-36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75084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882720" y="4660560"/>
            <a:ext cx="485784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750840" y="931824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859B8-1163-4511-AE97-F18F6DD7B2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-360" y="931824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-36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75084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882720" y="4660560"/>
            <a:ext cx="485784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750840" y="931824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93398-09E2-42AC-8E59-D3820DFA32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-360" y="931824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-36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75084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882720" y="4660560"/>
            <a:ext cx="485784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B6F59-1416-40D1-A789-6DDB8F11A6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E6F3D-347D-4FA5-AB01-9758AFA62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FA566-97F8-4981-836D-E6CAEBF3E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38120-E89B-4149-9C8D-6CBDC67273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E2735-ABC4-40E4-A8CB-0A208A660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0E942-8898-497D-80B1-2162C868C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48EBD-5EC3-4E51-90F7-11AEE066B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AF7AD-031B-428B-993C-C72E50F9E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B96B7-7BB3-494E-B89C-C35CC6E49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A108B-6029-4FFA-9D58-D71496AD3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396B0-E752-4783-B1E7-A1CF3D7DB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1A119-9E3A-4AAD-B12D-B517FFFA7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78815-D7F2-408C-A69C-E891D29D9C0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5062D-69A4-4E0D-B466-0A94C0C08A0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7667640" y="5999040"/>
          <a:ext cx="1062000" cy="59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67640" y="5999040"/>
                    <a:ext cx="1062000" cy="5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981000"/>
            <a:ext cx="864072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333399"/>
                </a:solidFill>
                <a:latin typeface="Arial"/>
              </a:rPr>
              <a:t>Digital Vision for Europe</a:t>
            </a:r>
            <a:br>
              <a:rPr sz="4000"/>
            </a:br>
            <a:r>
              <a:rPr b="1" i="1" lang="en-GB" sz="4000" spc="-1" strike="noStrike">
                <a:solidFill>
                  <a:srgbClr val="333399"/>
                </a:solidFill>
                <a:latin typeface="Arial"/>
              </a:rPr>
              <a:t>and Member States</a:t>
            </a:r>
            <a:br>
              <a:rPr sz="4000"/>
            </a:br>
            <a:br>
              <a:rPr sz="4000"/>
            </a:br>
            <a:r>
              <a:rPr b="1" i="1" lang="en-GB" sz="2400" spc="-1" strike="noStrike">
                <a:solidFill>
                  <a:srgbClr val="333399"/>
                </a:solidFill>
                <a:latin typeface="Arial"/>
              </a:rPr>
              <a:t>MINERVA-eC Workshop</a:t>
            </a:r>
            <a:br>
              <a:rPr sz="2400"/>
            </a:br>
            <a:r>
              <a:rPr b="1" i="1" lang="en-GB" sz="2400" spc="-1" strike="noStrike">
                <a:solidFill>
                  <a:srgbClr val="333399"/>
                </a:solidFill>
                <a:latin typeface="Arial"/>
              </a:rPr>
              <a:t>Belfast</a:t>
            </a: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79280" y="5805360"/>
            <a:ext cx="1835280" cy="835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40360" y="6021360"/>
            <a:ext cx="792000" cy="3175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916360" y="6408720"/>
            <a:ext cx="31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c4156"/>
                </a:solidFill>
                <a:latin typeface="Arial"/>
              </a:rPr>
              <a:t>The MICHAEL Project is funded under the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c4156"/>
                </a:solidFill>
                <a:latin typeface="Arial"/>
              </a:rPr>
              <a:t>European Commission eTEN Program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47640" y="4365720"/>
            <a:ext cx="64008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avid Daw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Museums, Libraries and Archives Counc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4005360"/>
            <a:ext cx="8351640" cy="9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uropeana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European Digital Library, Museum and Arch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-for-profit foun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mbers include European branches of ICA &amp; ICOM, LIBER, CERL, CENL and MICHAEL AISB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bsite launched in February as a ‘maquette’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owing how it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migh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work in a few year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e or two little issues still need working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490CD-EA2B-4EE7-B525-C3C115FD4C5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0" y="0"/>
          <a:ext cx="9144000" cy="692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92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ow Europeana is going to work …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How is Europeana going to work?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roperability Working Group established by the Com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resentatives and experts from all s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cussing high-level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otype being developed by EDLNet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LA &amp; ABM-Centrum (cross-domain agency in Sweden) leading a workpackage to involve all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pported also by MINERVA-eC and other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D1265-FEA8-4AE6-B8E2-183696D410A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MinervaE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hematic Network in the area of cultural, scientific information and scholarly 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ing the creation of quality content for the EDL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ing centres of excellence in digit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ing on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ing worksh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ing the MINERV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ical Guidelines!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3399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66680" cy="6318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066680" y="0"/>
            <a:ext cx="838440" cy="6174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6478560" y="3141720"/>
            <a:ext cx="2490840" cy="3527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728F9-30E1-46B2-9254-F572A1C95FE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588000" y="5373720"/>
            <a:ext cx="2556000" cy="148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35280" y="1341360"/>
            <a:ext cx="5545080" cy="15112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emantic interoperability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2010 funct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9640" y="3429000"/>
            <a:ext cx="5545080" cy="1871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987640" y="2276640"/>
            <a:ext cx="3384720" cy="502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8 Search function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4360" y="3573360"/>
            <a:ext cx="936360" cy="719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L 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3640" y="3573360"/>
            <a:ext cx="936720" cy="719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AD</a:t>
            </a:r>
            <a:br>
              <a:rPr sz="18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rchives 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43280" y="3573360"/>
            <a:ext cx="1008000" cy="719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PECTRUM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/ CID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useum 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244000" y="3789360"/>
            <a:ext cx="718920" cy="7207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43640" y="3789360"/>
            <a:ext cx="719280" cy="7207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380360" y="3789360"/>
            <a:ext cx="718920" cy="7207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8360" y="6237360"/>
            <a:ext cx="287280" cy="28728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00000" y="6237360"/>
            <a:ext cx="287280" cy="28728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32000" y="6237360"/>
            <a:ext cx="287280" cy="28728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195640" y="6237360"/>
            <a:ext cx="287280" cy="28728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627280" y="6237360"/>
            <a:ext cx="287280" cy="28728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59280" y="6237360"/>
            <a:ext cx="287280" cy="28728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92360" y="6237360"/>
            <a:ext cx="287640" cy="28728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6237360"/>
            <a:ext cx="287280" cy="28728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356000" y="6237360"/>
            <a:ext cx="287280" cy="28728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88000" y="6237360"/>
            <a:ext cx="287280" cy="28728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19640" y="6237360"/>
            <a:ext cx="287280" cy="28728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651640" y="6237360"/>
            <a:ext cx="287280" cy="28728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84720" y="6237360"/>
            <a:ext cx="287640" cy="28728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516720" y="6237360"/>
            <a:ext cx="287280" cy="28728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948360" y="6237360"/>
            <a:ext cx="287640" cy="28728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80360" y="6237360"/>
            <a:ext cx="287280" cy="28728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812000" y="6237360"/>
            <a:ext cx="287280" cy="28728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244000" y="6237360"/>
            <a:ext cx="287280" cy="28728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684360" y="5444640"/>
            <a:ext cx="358560" cy="57636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1402920" y="5444640"/>
            <a:ext cx="576360" cy="57636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276720" y="5444640"/>
            <a:ext cx="0" cy="57636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6300720" y="5084640"/>
            <a:ext cx="576360" cy="93672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7524720" y="5084640"/>
            <a:ext cx="432000" cy="93672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2340000" y="5444640"/>
            <a:ext cx="0" cy="57636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63640" y="6237360"/>
            <a:ext cx="287280" cy="28728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476360" y="5516640"/>
            <a:ext cx="1368360" cy="1189080"/>
          </a:xfrm>
          <a:prstGeom prst="rect">
            <a:avLst/>
          </a:prstGeom>
          <a:solidFill>
            <a:srgbClr val="99ccff">
              <a:alpha val="48000"/>
            </a:srgbClr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ONE institution may have both library (MARC) and archives (EAD)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659640" y="3000600"/>
            <a:ext cx="2305080" cy="52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pport for semantic interoperability (eg RDF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812000" y="5016600"/>
            <a:ext cx="1152720" cy="52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ML Harve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95640" y="3573360"/>
            <a:ext cx="938160" cy="719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cholarly </a:t>
            </a:r>
            <a:br>
              <a:rPr sz="1200"/>
            </a:b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Publications</a:t>
            </a:r>
            <a:br>
              <a:rPr sz="1200"/>
            </a:b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ePrints 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55640" y="4221000"/>
            <a:ext cx="79200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Libraries sear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3640" y="4800600"/>
            <a:ext cx="936720" cy="3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Controlled vocabular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4360" y="4800600"/>
            <a:ext cx="936360" cy="3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Controlled vocabular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916360" y="4800600"/>
            <a:ext cx="936360" cy="3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Controlled vocabular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995640" y="4800600"/>
            <a:ext cx="936720" cy="3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Controlled vocabular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2484360" y="2997000"/>
            <a:ext cx="647640" cy="43164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3419640" y="2997000"/>
            <a:ext cx="215640" cy="36036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692360" y="2997000"/>
            <a:ext cx="1008000" cy="43164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4066920" y="2997000"/>
            <a:ext cx="73080" cy="36036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 flipV="1">
            <a:off x="5076720" y="2997000"/>
            <a:ext cx="216000" cy="36036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 flipV="1">
            <a:off x="5579640" y="2997000"/>
            <a:ext cx="360360" cy="36036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6084360" y="2997000"/>
            <a:ext cx="358920" cy="36036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516720" y="3936960"/>
            <a:ext cx="2232000" cy="536040"/>
          </a:xfrm>
          <a:prstGeom prst="rect">
            <a:avLst/>
          </a:prstGeom>
          <a:solidFill>
            <a:srgbClr val="ffffff">
              <a:alpha val="34000"/>
            </a:srgbClr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ational portals</a:t>
            </a:r>
            <a:br>
              <a:rPr sz="2000"/>
            </a:b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(UK PNDS, FR Guichet, DE BAM etc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08000" y="5373720"/>
            <a:ext cx="619272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6300720" y="3933720"/>
            <a:ext cx="0" cy="14400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300720" y="3933720"/>
            <a:ext cx="266400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40" y="692280"/>
            <a:ext cx="5461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he European Digital 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4572000" y="5516640"/>
            <a:ext cx="216000" cy="50472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35280" y="4221000"/>
            <a:ext cx="79200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Archives sear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87640" y="4221000"/>
            <a:ext cx="79236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Museumssear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067280" y="4221000"/>
            <a:ext cx="79200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ePrints</a:t>
            </a:r>
            <a:br>
              <a:rPr sz="1000"/>
            </a:b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sear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659640" y="4437000"/>
            <a:ext cx="1944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‘</a:t>
            </a: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Who, what, where, when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076720" y="3573360"/>
            <a:ext cx="938160" cy="719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Other …</a:t>
            </a:r>
            <a:br>
              <a:rPr sz="1800"/>
            </a:b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pecific 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076720" y="4800600"/>
            <a:ext cx="936720" cy="3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Controlled vocabular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148360" y="4221000"/>
            <a:ext cx="79200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Sear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4FA07-F4E0-438A-ADD4-75B53CFF5F9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79280" y="3933720"/>
            <a:ext cx="2448000" cy="1727280"/>
          </a:xfrm>
          <a:prstGeom prst="rect">
            <a:avLst/>
          </a:prstGeom>
          <a:solidFill>
            <a:srgbClr val="f5f5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2"/>
          <p:cNvSpPr/>
          <p:nvPr/>
        </p:nvSpPr>
        <p:spPr>
          <a:xfrm>
            <a:off x="7308720" y="0"/>
            <a:ext cx="71640" cy="6858000"/>
          </a:xfrm>
          <a:prstGeom prst="flowChartProcess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3"/>
          <p:cNvSpPr/>
          <p:nvPr/>
        </p:nvSpPr>
        <p:spPr>
          <a:xfrm>
            <a:off x="4211640" y="909720"/>
            <a:ext cx="1152360" cy="1152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99ff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uropean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ggreg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4"/>
          <p:cNvSpPr/>
          <p:nvPr/>
        </p:nvSpPr>
        <p:spPr>
          <a:xfrm>
            <a:off x="7596360" y="476280"/>
            <a:ext cx="1079280" cy="7207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c0c0c0"/>
              </a:gs>
              <a:gs pos="100000">
                <a:srgbClr val="77777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t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5"/>
          <p:cNvSpPr/>
          <p:nvPr/>
        </p:nvSpPr>
        <p:spPr>
          <a:xfrm>
            <a:off x="826920" y="979560"/>
            <a:ext cx="1152720" cy="11541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99ff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uropean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D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t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6"/>
          <p:cNvSpPr/>
          <p:nvPr/>
        </p:nvSpPr>
        <p:spPr>
          <a:xfrm>
            <a:off x="1474920" y="4076640"/>
            <a:ext cx="1009440" cy="1368360"/>
          </a:xfrm>
          <a:prstGeom prst="can">
            <a:avLst>
              <a:gd name="adj" fmla="val 11990"/>
            </a:avLst>
          </a:prstGeom>
          <a:gradFill rotWithShape="0">
            <a:gsLst>
              <a:gs pos="0">
                <a:srgbClr val="6699ff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urope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de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7"/>
          <p:cNvSpPr/>
          <p:nvPr/>
        </p:nvSpPr>
        <p:spPr>
          <a:xfrm>
            <a:off x="4643280" y="3789360"/>
            <a:ext cx="2087640" cy="1800360"/>
          </a:xfrm>
          <a:prstGeom prst="cube">
            <a:avLst>
              <a:gd name="adj" fmla="val 12990"/>
            </a:avLst>
          </a:prstGeom>
          <a:gradFill rotWithShape="0">
            <a:gsLst>
              <a:gs pos="0">
                <a:srgbClr val="6699ff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uropeana Por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imple 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dvanced 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eted sear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browsi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8"/>
          <p:cNvSpPr/>
          <p:nvPr/>
        </p:nvSpPr>
        <p:spPr>
          <a:xfrm>
            <a:off x="7813800" y="1052640"/>
            <a:ext cx="1079280" cy="7207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c0c0c0"/>
              </a:gs>
              <a:gs pos="100000">
                <a:srgbClr val="77777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t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9"/>
          <p:cNvSpPr/>
          <p:nvPr/>
        </p:nvSpPr>
        <p:spPr>
          <a:xfrm>
            <a:off x="7956720" y="1628640"/>
            <a:ext cx="1079280" cy="7207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c0c0c0"/>
              </a:gs>
              <a:gs pos="100000">
                <a:srgbClr val="77777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t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10"/>
          <p:cNvSpPr/>
          <p:nvPr/>
        </p:nvSpPr>
        <p:spPr>
          <a:xfrm>
            <a:off x="5364000" y="1339920"/>
            <a:ext cx="2303640" cy="504720"/>
          </a:xfrm>
          <a:prstGeom prst="leftArrow">
            <a:avLst>
              <a:gd name="adj1" fmla="val 49685"/>
              <a:gd name="adj2" fmla="val 51389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rve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2"/>
          <p:cNvSpPr/>
          <p:nvPr/>
        </p:nvSpPr>
        <p:spPr>
          <a:xfrm rot="10800000">
            <a:off x="4140000" y="1989000"/>
            <a:ext cx="1152360" cy="503280"/>
          </a:xfrm>
          <a:custGeom>
            <a:avLst/>
            <a:gdLst>
              <a:gd name="textAreaLeft" fmla="*/ 218520 w 1152360"/>
              <a:gd name="textAreaRight" fmla="*/ 824400 w 1152360"/>
              <a:gd name="textAreaTop" fmla="*/ 67320 h 503280"/>
              <a:gd name="textAreaBottom" fmla="*/ 435960 h 50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197" hR="21600" stAng="10800000" swAng="5400000"/>
                <a:lnTo>
                  <a:pt x="11351" y="0"/>
                </a:lnTo>
                <a:arcTo wR="8197" hR="21600" stAng="-5400000" swAng="2888970"/>
                <a:lnTo>
                  <a:pt x="21164" y="14649"/>
                </a:lnTo>
                <a:lnTo>
                  <a:pt x="17970" y="21600"/>
                </a:lnTo>
                <a:lnTo>
                  <a:pt x="13904" y="14649"/>
                </a:lnTo>
                <a:lnTo>
                  <a:pt x="15957" y="14649"/>
                </a:lnTo>
                <a:arcTo wR="8197" hR="21600" stAng="-2511030" swAng="-2633674"/>
                <a:lnTo>
                  <a:pt x="9774" y="404"/>
                </a:lnTo>
                <a:arcTo wR="8197" hR="21600" stAng="-5655296" swAng="-5144704"/>
                <a:close/>
              </a:path>
              <a:path fill="darkenLess" w="21600" h="21600">
                <a:moveTo>
                  <a:pt x="0" y="21600"/>
                </a:moveTo>
                <a:arcTo wR="8197" hR="21600" stAng="10800000" swAng="5400000"/>
                <a:lnTo>
                  <a:pt x="8197" y="0"/>
                </a:lnTo>
                <a:arcTo wR="8197" hR="21600" stAng="-5400000" swAng="255296"/>
                <a:lnTo>
                  <a:pt x="9774" y="404"/>
                </a:lnTo>
                <a:arcTo wR="8197" hR="21600" stAng="-5655296" swAng="-5144704"/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0"/>
          <p:cNvSpPr/>
          <p:nvPr/>
        </p:nvSpPr>
        <p:spPr>
          <a:xfrm>
            <a:off x="5386320" y="6597720"/>
            <a:ext cx="182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UROPEANA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1"/>
          <p:cNvSpPr/>
          <p:nvPr/>
        </p:nvSpPr>
        <p:spPr>
          <a:xfrm>
            <a:off x="7355520" y="6597720"/>
            <a:ext cx="17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RNAL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30"/>
          <p:cNvSpPr/>
          <p:nvPr/>
        </p:nvSpPr>
        <p:spPr>
          <a:xfrm>
            <a:off x="1979640" y="1341360"/>
            <a:ext cx="2087640" cy="505080"/>
          </a:xfrm>
          <a:prstGeom prst="leftArrow">
            <a:avLst>
              <a:gd name="adj1" fmla="val 49685"/>
              <a:gd name="adj2" fmla="val 46538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ns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31"/>
          <p:cNvGrpSpPr/>
          <p:nvPr/>
        </p:nvGrpSpPr>
        <p:grpSpPr>
          <a:xfrm>
            <a:off x="7575480" y="4005360"/>
            <a:ext cx="1533600" cy="1344600"/>
            <a:chOff x="7575480" y="4005360"/>
            <a:chExt cx="1533600" cy="1344600"/>
          </a:xfrm>
        </p:grpSpPr>
        <p:sp>
          <p:nvSpPr>
            <p:cNvPr id="198" name="AutoShape 32"/>
            <p:cNvSpPr/>
            <p:nvPr/>
          </p:nvSpPr>
          <p:spPr>
            <a:xfrm>
              <a:off x="7575480" y="4005360"/>
              <a:ext cx="1533600" cy="1297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s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" name="Group 33"/>
            <p:cNvGrpSpPr/>
            <p:nvPr/>
          </p:nvGrpSpPr>
          <p:grpSpPr>
            <a:xfrm>
              <a:off x="7697880" y="4426200"/>
              <a:ext cx="1320840" cy="923760"/>
              <a:chOff x="7697880" y="4426200"/>
              <a:chExt cx="1320840" cy="923760"/>
            </a:xfrm>
          </p:grpSpPr>
          <p:pic>
            <p:nvPicPr>
              <p:cNvPr id="200" name="Picture 34" descr="workstation"/>
              <p:cNvPicPr/>
              <p:nvPr/>
            </p:nvPicPr>
            <p:blipFill>
              <a:blip r:embed="rId2"/>
              <a:stretch/>
            </p:blipFill>
            <p:spPr>
              <a:xfrm>
                <a:off x="8008920" y="4426200"/>
                <a:ext cx="1009800" cy="92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1" name="Picture 35" descr="user"/>
              <p:cNvPicPr/>
              <p:nvPr/>
            </p:nvPicPr>
            <p:blipFill>
              <a:blip r:embed="rId3"/>
              <a:stretch/>
            </p:blipFill>
            <p:spPr>
              <a:xfrm>
                <a:off x="7697880" y="4519800"/>
                <a:ext cx="571320" cy="752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02" name="AutoShape 38"/>
          <p:cNvSpPr/>
          <p:nvPr/>
        </p:nvSpPr>
        <p:spPr>
          <a:xfrm rot="15529800">
            <a:off x="766440" y="2922120"/>
            <a:ext cx="1946520" cy="504720"/>
          </a:xfrm>
          <a:prstGeom prst="leftArrow">
            <a:avLst>
              <a:gd name="adj1" fmla="val 49685"/>
              <a:gd name="adj2" fmla="val 43423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372360" y="1773360"/>
            <a:ext cx="360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987640" y="1773360"/>
            <a:ext cx="360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7280" y="3213000"/>
            <a:ext cx="360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643280" y="2349360"/>
            <a:ext cx="360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10800000">
            <a:off x="755280" y="620280"/>
            <a:ext cx="1150920" cy="504720"/>
          </a:xfrm>
          <a:custGeom>
            <a:avLst/>
            <a:gdLst>
              <a:gd name="textAreaLeft" fmla="*/ 220320 w 1150920"/>
              <a:gd name="textAreaRight" fmla="*/ 815400 w 1150920"/>
              <a:gd name="textAreaTop" fmla="*/ 67320 h 504720"/>
              <a:gd name="textAreaBottom" fmla="*/ 43740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275" hR="21600" stAng="10800000" swAng="-5400000"/>
                <a:lnTo>
                  <a:pt x="11165" y="21600"/>
                </a:lnTo>
                <a:arcTo wR="8275" hR="21600" stAng="5400000" swAng="-2968068"/>
                <a:lnTo>
                  <a:pt x="21189" y="6724"/>
                </a:lnTo>
                <a:lnTo>
                  <a:pt x="17995" y="0"/>
                </a:lnTo>
                <a:lnTo>
                  <a:pt x="13979" y="6724"/>
                </a:lnTo>
                <a:lnTo>
                  <a:pt x="16139" y="6724"/>
                </a:lnTo>
                <a:arcTo wR="8275" hR="21600" stAng="2431932" swAng="2734859"/>
                <a:lnTo>
                  <a:pt x="9720" y="21268"/>
                </a:lnTo>
                <a:arcTo wR="8275" hR="21600" stAng="5633209" swAng="5166791"/>
                <a:close/>
              </a:path>
              <a:path fill="darkenLess" w="21600" h="21600">
                <a:moveTo>
                  <a:pt x="0" y="0"/>
                </a:moveTo>
                <a:arcTo wR="8275" hR="21600" stAng="10800000" swAng="-5400000"/>
                <a:lnTo>
                  <a:pt x="11165" y="21600"/>
                </a:lnTo>
                <a:arcTo wR="8275" hR="21600" stAng="5400000" swAng="233209"/>
                <a:lnTo>
                  <a:pt x="9720" y="21268"/>
                </a:lnTo>
                <a:arcTo wR="8275" hR="21600" stAng="5633209" swAng="5166791"/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6"/>
          <p:cNvSpPr/>
          <p:nvPr/>
        </p:nvSpPr>
        <p:spPr>
          <a:xfrm>
            <a:off x="322200" y="4076640"/>
            <a:ext cx="1009800" cy="1368360"/>
          </a:xfrm>
          <a:prstGeom prst="can">
            <a:avLst>
              <a:gd name="adj" fmla="val 11990"/>
            </a:avLst>
          </a:prstGeom>
          <a:gradFill rotWithShape="0">
            <a:gsLst>
              <a:gs pos="0">
                <a:srgbClr val="6699ff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uropean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a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38"/>
          <p:cNvSpPr/>
          <p:nvPr/>
        </p:nvSpPr>
        <p:spPr>
          <a:xfrm rot="16938000">
            <a:off x="19440" y="2921760"/>
            <a:ext cx="1944720" cy="504720"/>
          </a:xfrm>
          <a:prstGeom prst="leftArrow">
            <a:avLst>
              <a:gd name="adj1" fmla="val 49685"/>
              <a:gd name="adj2" fmla="val 43383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19640" y="4076640"/>
            <a:ext cx="360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284360" y="278136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29"/>
          <p:cNvSpPr/>
          <p:nvPr/>
        </p:nvSpPr>
        <p:spPr>
          <a:xfrm>
            <a:off x="2627280" y="4292640"/>
            <a:ext cx="1944720" cy="865080"/>
          </a:xfrm>
          <a:prstGeom prst="leftRightArrow">
            <a:avLst>
              <a:gd name="adj1" fmla="val 46074"/>
              <a:gd name="adj2" fmla="val 47458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rm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trie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875640" y="4132440"/>
            <a:ext cx="360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39"/>
          <p:cNvSpPr/>
          <p:nvPr/>
        </p:nvSpPr>
        <p:spPr>
          <a:xfrm>
            <a:off x="6732720" y="4581360"/>
            <a:ext cx="863640" cy="503280"/>
          </a:xfrm>
          <a:prstGeom prst="leftRightArrow">
            <a:avLst>
              <a:gd name="adj1" fmla="val 46074"/>
              <a:gd name="adj2" fmla="val 3622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258920" y="531720"/>
            <a:ext cx="360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-109440" y="-2700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sto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524720" y="5950080"/>
            <a:ext cx="1368360" cy="71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1CDD1-349D-4155-8EE7-DEA4383C579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nabling the EDL to promote your conten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686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DL will help you to promote your content to new audiences. Get involved! Start planning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r cont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chnical standar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your content using open standar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MINERVA Technical Guideli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ada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your existing cataloguing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pare to map your data to domain-specific Dublin Core Application Pro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rminolog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to take the opportunity offered by the semantic w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sh your terminologies and thesauri using SKO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is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your content visi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 your content and services with existing registries - such as TEL and MICHA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8FDB4-FA86-469C-93F6-27E5E3CA653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rategic issu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an Commission has asked all Member States to take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 digit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ckle IPR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preser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lture Ministers have agreed to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raw up and update plans and national strategies for digitisation of cultural materi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t up national coordination mechanisms for digitisation activities, including at the regional and local levels, in the field of cultural cont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ission established Member States Experts Group to enable coordin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A4F2E-C2EE-4AC7-B437-D7943F328F3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acticalit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6868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England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ultural sector content aggregated into the People’s Network Discover Service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rrently harvests metadata of c 500,000 digital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MLA-funded activity (DCF, Renaiss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ther projects using infrastructure to deliver their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timated 4 million digital objects by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grated into the redevelopment of the 24 Hour Museum website and the work of Collections Trust with SS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king with JISC and Research s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C1656-9A1D-43EF-86BA-16CF73636B0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4403880" cy="64087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Netful of Jewe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68000" y="1267920"/>
            <a:ext cx="6875640" cy="50403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ew network will be a personal cultural medium for the age of personal lear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want museums to provide collection related information and they want interactive, participative services, too. Both are essential to the digital muse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eum resources of all kinds must be linked to those from libraries, archives, universities and other arts, humanities and science institutions worldw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152C1-629F-4D07-9F17-AA07CDF4E9D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actical suppor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range of projects funded under the eContentPlus program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DLoc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rt for getting metadata to Europe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 - Collections Tru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reland – Library Counc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th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useum content for Europe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 – Collections Tru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reland – National Muse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E38AA-F3AC-412A-897F-3B24D977462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ime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686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r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lection and assessment of targets for harvesting comple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chnical work on building harvester st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1 – initial work on business models in EDL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3 - MICHAEL project conference marks end of EU funded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rst eContentPlus support projects begin (EDLoc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 - Launch of Due Diligence Guidelines on Orphan 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3-24 - Europeana initial prototype being reviewed at a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ference in the Hague (any volunteers??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u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ench Presidency begin reviewing progress by Member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v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gh profile launch by Commissioner Re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ench Presidency present progress report to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lture Ministers Counc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2911E-A936-4CAE-9618-7FB336C6F52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.dawson@mla.gov.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250920" y="5734080"/>
            <a:ext cx="1511280" cy="7477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4175280" y="6021360"/>
            <a:ext cx="79200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he European Digital Library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olitical initiative – part of the i2010 EU IT strategy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will be a common multilingual access point to Europe’s distributed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d in different places by different organis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ypes of  cultural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s, audiovisual, museum objects, archival records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ed at delivering rapidly a critical mass of resources to the us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24000" y="5950080"/>
            <a:ext cx="1331640" cy="658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284720" y="6165720"/>
            <a:ext cx="792000" cy="317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FAF42-1619-4AA9-AD87-AAB2B2930EC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uilding block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uropean Library (TEL) as a gateway to the collective resources of national libraries across Eur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ork ongoing in the Michael project in describing and linking digital collections of museums, libraries and archives from different Member States and providing  access to these coll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32000" cy="6588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8172360" y="6424560"/>
            <a:ext cx="792360" cy="317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407DB-0DB0-451F-9878-589C820BC42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ICHAEL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jec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ICHA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6868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lingual Inventory of Cultural Herit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w 16 countries across 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uropean portal launched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gital coll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bsites, elearning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abases, CD / DV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iming to link to edu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rriculum Online, EU Schoolnet, JISC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stained by a not-for-profit organisation – MICHAEL AISB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mbers include FR, IT, DE, PL, GR and more to 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nistries of Culture + their representatives – including M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t of the Europeana Foun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940360" y="1844640"/>
            <a:ext cx="2987640" cy="21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8937D-2CE9-4971-8203-F1FD92B6382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588000" y="5373720"/>
            <a:ext cx="2556000" cy="148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1773360"/>
            <a:ext cx="3457440" cy="11523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an Digital 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3789360"/>
            <a:ext cx="2017440" cy="719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0920" y="5661000"/>
            <a:ext cx="1584360" cy="432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59280" y="3429000"/>
            <a:ext cx="3097080" cy="1152360"/>
          </a:xfrm>
          <a:prstGeom prst="ellipse">
            <a:avLst/>
          </a:prstGeom>
          <a:solidFill>
            <a:srgbClr val="ff9900">
              <a:alpha val="6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HA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3429000"/>
            <a:ext cx="2160360" cy="1152360"/>
          </a:xfrm>
          <a:prstGeom prst="ellipse">
            <a:avLst/>
          </a:prstGeom>
          <a:solidFill>
            <a:srgbClr val="ff9900">
              <a:alpha val="67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 Servic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87640" y="5589720"/>
            <a:ext cx="720720" cy="649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88000" y="5589720"/>
            <a:ext cx="720720" cy="649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588000" y="5589720"/>
            <a:ext cx="720720" cy="649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2627280" y="4581360"/>
            <a:ext cx="865080" cy="93528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419640" y="4724280"/>
            <a:ext cx="431640" cy="71928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284720" y="4797000"/>
            <a:ext cx="142920" cy="57636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5076720" y="4868640"/>
            <a:ext cx="71640" cy="64764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5363640" y="4797360"/>
            <a:ext cx="576360" cy="71928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6156360" y="4724280"/>
            <a:ext cx="216000" cy="71928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 flipV="1">
            <a:off x="6516720" y="4797000"/>
            <a:ext cx="503280" cy="64620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6804000" y="4724280"/>
            <a:ext cx="1008000" cy="64800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572000" y="2997000"/>
            <a:ext cx="216000" cy="43164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6372360" y="2997000"/>
            <a:ext cx="287280" cy="43164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uropean Digital Library and MICHA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124000" y="5589720"/>
          <a:ext cx="665280" cy="66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5589720"/>
                    <a:ext cx="665280" cy="66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3906720" y="5589720"/>
          <a:ext cx="665280" cy="66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06720" y="5589720"/>
                    <a:ext cx="665280" cy="66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5651640" y="5589720"/>
          <a:ext cx="736560" cy="736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51640" y="5589720"/>
                    <a:ext cx="73656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7524720" y="5589720"/>
          <a:ext cx="719280" cy="718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24720" y="5589720"/>
                    <a:ext cx="719280" cy="71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7D1E9-0EFD-4119-BE7F-402EB12495F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Arial"/>
              </a:rPr>
              <a:t>Why are Service Registries needed?</a:t>
            </a:r>
            <a:endParaRPr b="0" lang="en-US" sz="3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 of where content is and how it is mana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 Environment Service Regi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lds technical details of datab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schemas, interoperability protocols, terminologies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es construction of machine-to-machine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05B7B-B665-428F-BBD4-D3F186110CA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Europeana:</a:t>
            </a:r>
            <a:br>
              <a:rPr sz="48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Europe’s digital museum, library and archiv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7T16:38:18Z</dcterms:created>
  <dc:creator>KateF</dc:creator>
  <dc:description/>
  <dc:language>en-US</dc:language>
  <cp:lastModifiedBy>jward</cp:lastModifiedBy>
  <dcterms:modified xsi:type="dcterms:W3CDTF">2008-05-22T08:29:45Z</dcterms:modified>
  <cp:revision>547</cp:revision>
  <dc:subject/>
  <dc:title>Slide 1</dc:title>
</cp:coreProperties>
</file>