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F32-D33E-4FCD-8659-7394764B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4B75-FC52-4E53-A148-B48C293D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7D8-C6B8-4C74-A8A9-1B835183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57C-08F8-4D50-9A45-0DBF2047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30A6-5AD9-4010-8831-BFF66B5B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759-362F-429A-ADA4-C72ED135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9B0-5DFB-436E-9B58-11F9DD4A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031-4EED-45DD-A7B9-DE4FB363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759-DF5C-47D3-B69F-2E578D89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B6CA-908B-4762-BDB4-34169C9E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EB9-8B8E-460B-A855-CE750D5B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ADA-1A9A-487E-B2F3-8BD046D1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F1CA-883C-4A46-9EF1-5490F47EA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ultural Heritage Digitisation 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Joan 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n Chomhairle Leabharlan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Library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tudent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271520"/>
            <a:ext cx="62658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7404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388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llenges &amp; Opportunit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lanning &amp; Co-ordination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-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lexible plan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lexib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ser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Opportunities &amp;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ff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dicated digitisation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ntent &amp;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n house  / Out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ntent Publ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pyright &amp; I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hallenges &amp; 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xpertise contin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raining &amp; refresher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ntent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ebsite currency –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ntent storage media, website development &amp; management, software applications versions / backward 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Future Proof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ultural Heritage Digitisation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igitisation Programmes -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igitisation Opportunitie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ultural Heritage Digitisation  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ranching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ranching Out steering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ultural Heritage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2002 –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igitisation Program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ilot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ilot projects &amp; national digitisation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ational Digitisation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ational gateway and individual local studies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sourc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ww.askaboutireland.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47640" y="1160640"/>
            <a:ext cx="59738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87280" y="527040"/>
            <a:ext cx="712980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11280" y="333360"/>
          <a:ext cx="8066160" cy="62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33360"/>
                    <a:ext cx="806616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igitisation Program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ducational conten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ational data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rish Times Archive, Historic Maps, Griffith’s Valu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igital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ew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1:48:16Z</dcterms:created>
  <dc:creator>jward</dc:creator>
  <dc:description/>
  <dc:language>en-US</dc:language>
  <cp:lastModifiedBy>Akelly</cp:lastModifiedBy>
  <dcterms:modified xsi:type="dcterms:W3CDTF">2008-05-20T09:55:10Z</dcterms:modified>
  <cp:revision>3</cp:revision>
  <dc:subject/>
  <dc:title>Cultural Heritage Digitisation Programme</dc:title>
</cp:coreProperties>
</file>